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6E63F00-54F3-4C69-B2CB-2D8FBA121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064C443-9A04-4C35-80FF-A5BE959CC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576401C-7A45-4062-B4C6-606A4BB70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C1D493C-7E48-4F4B-BB9B-75D5B1CFB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6FC0-11DE-4E75-982F-C0892058F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4C6B-6111-4A58-ABB0-08F3532D3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FEE4-E09D-4904-9094-DFE38647F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4A99-DF30-4931-AFF2-A23DB4DCA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F748-EEE4-40B8-AED6-F484498F3F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0CA6-0B06-482E-AD9E-345D879F4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7ED5-8226-40B6-B235-C3A7C401C3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D92D-D441-4E3B-9811-2A776B67DD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7B59-CBC1-441D-85A7-61AD09A412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A708-FABC-4444-B47C-7BF18F231E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473B-F19F-4FA5-9BE8-38360AA04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E79C-1B59-4811-B9D3-0EDF101A8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A6C9-4F69-4DC7-A92B-DF135C19EC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1595-2D56-4B68-BB2C-24CD1CF364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0EBE-B238-4245-90E2-CD99431569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5766-EF86-445A-91E7-5C33E7B526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1700-05E2-4876-81CB-1EF194622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4875-243A-4FB8-8DF8-4C5814091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709A-B3F8-4B5D-A9BA-D3D3894DC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CE73-F7A3-426C-B19C-0EFF23D0E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FB45-9672-44ED-A6EC-0F2FB93C0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A82C-DD86-40E0-8A01-C6556C9A9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7AE3-B2F6-43B4-AA35-05A0C1466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B10F-031F-4313-B1C6-EFC26605C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8B14-93B7-4EDD-8752-C392A0FF9B09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81B4-3DCF-46BA-8E73-C4E1F75816D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</a:t>
            </a: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8</a:t>
            </a: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Preliminary findings</a:t>
            </a:r>
            <a:br>
              <a:rPr sz="3200"/>
            </a:b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4292640"/>
            <a:ext cx="745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rike WEINSP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desk Evaluatio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C134-DCC4-4B49-A243-CE0249D4A97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52480" y="501300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help improve ongoing evaluation systems in the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 IS THE PURPOSE OF THE 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852480" y="256536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enhance the quality of evaluation reporting by fostering consistent approaches across the 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52480" y="3733920"/>
            <a:ext cx="8291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identify and promote good practice in conducting and reporting about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52480" y="150012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valuation Helpdesk prepares it annually,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6D8-8709-4B43-A13B-5215E5CB612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port on progress on every component of the ongoing evaluation syst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rovide more detailed information on all relevant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your reporting on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activit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ed or underway and provide 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time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activities planned for the following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king into account that most APRs (for 2008) were already drafted by the time th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nthesis was presented, these recommendations remain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INDER OF THE MAIN RECOMMENDATIONS FROM THE PREVIOUS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E925-C15F-4854-9904-9090CBEF7AB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tion on ongoing evaluation in the APRs reviewed this yea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aries in information content, quality and 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describe sufficiently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titu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information is provided on reviewing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25% of APR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evaluation ques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AP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view of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ddressed in 50% of APRs, but little detail is provided on how this was done and what were the mai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50% of the APRs refer to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thodologies that will be used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ENERAL FINDING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FROM APRs FO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7BA-72F1-4315-AB7F-DCA122DEC27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6335640" cy="129708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VERAGE OF EVALUATION SYSTEM AND ACTIVITIES (2007 and 2008)</a:t>
            </a:r>
            <a:endParaRPr b="1" lang="en-US" sz="2000" spc="-1" strike="noStrike">
              <a:solidFill>
                <a:srgbClr val="006463"/>
              </a:solidFill>
              <a:latin typeface="Arial"/>
            </a:endParaRPr>
          </a:p>
        </p:txBody>
      </p:sp>
      <p:graphicFrame>
        <p:nvGraphicFramePr>
          <p:cNvPr id="112" name="Rectangle 13"/>
          <p:cNvGraphicFramePr/>
          <p:nvPr/>
        </p:nvGraphicFramePr>
        <p:xfrm>
          <a:off x="530280" y="1700280"/>
          <a:ext cx="814392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00280"/>
                    <a:ext cx="8143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48D3-43CC-467F-9F7B-E927D0EF305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Art 82 2) d) of Council Regulation 1698/2005, MS are requested to provide in the AP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mm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1" lang="pl-PL" sz="2000" spc="-1" strike="noStrike">
                <a:solidFill>
                  <a:srgbClr val="009999"/>
                </a:solidFill>
                <a:latin typeface="Arial"/>
              </a:rPr>
              <a:t>f their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evalu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f these summa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 on a general and abstract level,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difficult to assess the progress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n ongoing evaluation should not just be an additional burden, but ra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timulate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ngoing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e an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exchange of experience and good pract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onductin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e to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continuous capacity building and intera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valuation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S A TOOL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1B8A-2B10-449C-9EB5-BA86ED02BB0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46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is essential that the fine-tuning of th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review of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dicators and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 carried out i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eparation for th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preferably in 2009) and properly repor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information is need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Methodological 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S are undertaking or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he different activities of the MTE are organised (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perational plan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and what h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en or 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ne including milestones, timelin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ist MS,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ore detailed explanatory not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010 reporting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RECOMMENDATIONS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R REPORTING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BAB1-33DE-4957-948A-590F62C46370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BD5F-68EF-4C98-8234-075B1C4E6D8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xplanatory note follows the indicative outline provided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Not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76" t="7346" r="1949" b="48359"/>
          <a:stretch/>
        </p:blipFill>
        <p:spPr>
          <a:xfrm>
            <a:off x="928800" y="2060640"/>
            <a:ext cx="7132680" cy="38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Oval 5"/>
          <p:cNvSpPr/>
          <p:nvPr/>
        </p:nvSpPr>
        <p:spPr>
          <a:xfrm>
            <a:off x="1979640" y="2205000"/>
            <a:ext cx="865080" cy="289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MEF HANDBOOK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FA1-3C84-4590-A066-B8AE30F35871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29:20Z</dcterms:modified>
  <cp:revision>344</cp:revision>
  <dc:subject/>
  <dc:title>EENRD presentation</dc:title>
</cp:coreProperties>
</file>